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86575" cy="10021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29720" y="750960"/>
            <a:ext cx="5427720" cy="375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610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840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840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B221-891D-4246-B6EF-F8ABA5C132C8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730080" y="750960"/>
            <a:ext cx="5427720" cy="375912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9040" y="47610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egnaposto numero diapositiva 3"/>
          <p:cNvSpPr/>
          <p:nvPr/>
        </p:nvSpPr>
        <p:spPr>
          <a:xfrm>
            <a:off x="39020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E0CF-593F-41EF-BC81-DB7A27125456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195A-D630-4775-883E-8CDCBC33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B3B2-424A-4063-A731-69B94DEF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7F7C-98D0-4CBC-AB37-188F272FC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EA1A-212C-44C6-9CC8-81E0F70C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AA04-340F-406F-A41D-DDED301C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B86B-2EEF-4446-A615-64D25037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617C-A506-4A0D-B5EA-9E86BD6A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CC5B-499F-4C23-B352-F386FBEE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17C1-DFBF-4BF7-9A46-7E32405A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79DB-EEA9-42B1-A453-BA1CEC81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269F-0904-46B2-A7B2-A74A6EAC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4EB5-510B-4822-8299-797E5719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BAAE-7BD8-472B-80E4-0530AA0A811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5181480" y="1447920"/>
            <a:ext cx="44960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2"/>
          <p:cNvSpPr/>
          <p:nvPr/>
        </p:nvSpPr>
        <p:spPr>
          <a:xfrm>
            <a:off x="-1381320" y="457200"/>
            <a:ext cx="402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4"/>
          <p:cNvSpPr/>
          <p:nvPr/>
        </p:nvSpPr>
        <p:spPr>
          <a:xfrm>
            <a:off x="900000" y="14925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2"/>
          <p:cNvSpPr/>
          <p:nvPr/>
        </p:nvSpPr>
        <p:spPr>
          <a:xfrm>
            <a:off x="4861080" y="331308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5"/>
          <p:cNvSpPr/>
          <p:nvPr/>
        </p:nvSpPr>
        <p:spPr>
          <a:xfrm>
            <a:off x="228600" y="2360880"/>
            <a:ext cx="5105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8"/>
          <p:cNvSpPr/>
          <p:nvPr/>
        </p:nvSpPr>
        <p:spPr>
          <a:xfrm>
            <a:off x="5715000" y="914400"/>
            <a:ext cx="76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1"/>
          <p:cNvSpPr/>
          <p:nvPr/>
        </p:nvSpPr>
        <p:spPr>
          <a:xfrm>
            <a:off x="457200" y="3657600"/>
            <a:ext cx="4419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34"/>
          <p:cNvSpPr/>
          <p:nvPr/>
        </p:nvSpPr>
        <p:spPr>
          <a:xfrm>
            <a:off x="65160" y="5348160"/>
            <a:ext cx="990576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5"/>
          <p:cNvSpPr/>
          <p:nvPr/>
        </p:nvSpPr>
        <p:spPr>
          <a:xfrm>
            <a:off x="65160" y="1628640"/>
            <a:ext cx="990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8"/>
          <p:cNvSpPr/>
          <p:nvPr/>
        </p:nvSpPr>
        <p:spPr>
          <a:xfrm>
            <a:off x="5457960" y="58680"/>
            <a:ext cx="4103640" cy="69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REGOLAMENT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L’Associazione Sportiva Dilettantistica Atletica Livorno organizza una manifestazione di atletica leggera denominata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“23° Trofeo Aldo Conti e 5° Trofeo Francesco Calderini”, 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in tre giornate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 (21 Marzo e 9-11Aprile 2013) 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con il patrocinio del Centro Servizi Amministrativi del M.P.I. di Livorno, della Circoscrizione n. 5 del Comune di  Livorno e del Comitato Provinciale FIDAL dedicata agli studenti delle Scuole Medie e Primarie 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Le gare di velocità saranno disputate con batterie e finali. In caso di parità di tempi precede il più giovane di età. Per i concorsi ogni atleta avrà a disposizione 2 prove, con finale per i migliori 12 con ulteriori 2 prove.   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Non si può gareggiare nella stessa giornata in due gare 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Non possono essere utilizzate scarpette chiodate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In ogni gara saranno premiati con medaglie i primi 6 classificati. Per ogni gara e per ogni categoria sarà assegnato il seguente punteggio: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12 punti al 1°, 11 al 2°, 10 al 3° e così via fino al 12° che avrà 1 punto. Sarà stilata una classifica per istituti scolastici e saranno premiate con coppe tutte le scuole partecipanti. Saranno premiati anche i 3 plessi della Scuola Primaria che avranno schierato il maggior numero di partecipanti. Tutti gli studenti dovranno essere preventivamente assicurati  come obbligo per i partecipanti ai giochi sportivi studenteschi   ed aver superato le prescritte visite mediche. Per quanto non contemplato nel presente regolamento valgono le norme del regolamento organico della FIDAL.</a:t>
            </a: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it-IT" sz="1200" spc="-1" strike="noStrike">
                <a:solidFill>
                  <a:srgbClr val="000000"/>
                </a:solidFill>
                <a:latin typeface="Arial Black"/>
              </a:rPr>
              <a:t>ALBO D’OR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 Black"/>
              </a:rPr>
              <a:t>                      </a:t>
            </a:r>
            <a:r>
              <a:rPr b="1" lang="it-IT" sz="900" spc="-1" strike="noStrike">
                <a:solidFill>
                  <a:srgbClr val="000000"/>
                </a:solidFill>
                <a:latin typeface="Arial Black"/>
              </a:rPr>
              <a:t>Edizione 1990: S.M. 11 Maggio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 Black"/>
              </a:rPr>
              <a:t>                      </a:t>
            </a:r>
            <a:r>
              <a:rPr b="1" lang="it-IT" sz="900" spc="-1" strike="noStrike">
                <a:solidFill>
                  <a:srgbClr val="000000"/>
                </a:solidFill>
                <a:latin typeface="Arial Black"/>
              </a:rPr>
              <a:t>Edizione 1991: S.M. Colombo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 Black"/>
              </a:rPr>
              <a:t>                      </a:t>
            </a:r>
            <a:r>
              <a:rPr b="1" lang="it-IT" sz="900" spc="-1" strike="noStrike">
                <a:solidFill>
                  <a:srgbClr val="000000"/>
                </a:solidFill>
                <a:latin typeface="Arial Black"/>
              </a:rPr>
              <a:t>Edizione 1992: S.M. Tesei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 Black"/>
              </a:rPr>
              <a:t>                      </a:t>
            </a:r>
            <a:r>
              <a:rPr b="1" lang="it-IT" sz="900" spc="-1" strike="noStrike">
                <a:solidFill>
                  <a:srgbClr val="000000"/>
                </a:solidFill>
                <a:latin typeface="Arial Black"/>
              </a:rPr>
              <a:t>Edizione 1993: S.M. Colombo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 Black"/>
              </a:rPr>
              <a:t>                      </a:t>
            </a:r>
            <a:r>
              <a:rPr b="1" lang="it-IT" sz="900" spc="-1" strike="noStrike">
                <a:solidFill>
                  <a:srgbClr val="000000"/>
                </a:solidFill>
                <a:latin typeface="Arial Black"/>
              </a:rPr>
              <a:t>Edizione 1994: S.M. 11 Maggio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it-IT" sz="900" spc="-1" strike="noStrike">
                <a:solidFill>
                  <a:srgbClr val="000000"/>
                </a:solidFill>
                <a:latin typeface="Arial Black"/>
              </a:rPr>
              <a:t>Edizione 1995: S.M. 11 Maggio- S.E. Albertelli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it-IT" sz="900" spc="-1" strike="noStrike">
                <a:solidFill>
                  <a:srgbClr val="000000"/>
                </a:solidFill>
                <a:latin typeface="Arial Black"/>
              </a:rPr>
              <a:t>Edizione 1996: S.M. 11 Maggio- S.E. S. Giuli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it-IT" sz="900" spc="-1" strike="noStrike">
                <a:solidFill>
                  <a:srgbClr val="000000"/>
                </a:solidFill>
                <a:latin typeface="Arial Black"/>
              </a:rPr>
              <a:t>Edizione 1997: S.M. Colombo- S.E. G. Fattori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it-IT" sz="900" spc="-1" strike="noStrike">
                <a:solidFill>
                  <a:srgbClr val="000000"/>
                </a:solidFill>
                <a:latin typeface="Arial Black"/>
              </a:rPr>
              <a:t>Edizione 1999: S.M. 11 Maggio- S.E. G. Micheli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it-IT" sz="900" spc="-1" strike="noStrike">
                <a:solidFill>
                  <a:srgbClr val="000000"/>
                </a:solidFill>
                <a:latin typeface="Arial Black"/>
              </a:rPr>
              <a:t>Edizione 2000: S.M. Borsi-Pazzini - S.E. G. Carducci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it-IT" sz="900" spc="-1" strike="noStrike">
                <a:solidFill>
                  <a:srgbClr val="000000"/>
                </a:solidFill>
                <a:latin typeface="Arial Black"/>
              </a:rPr>
              <a:t>Edizione 2001: S.M. Mazzini- S.E. Albertelli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it-IT" sz="900" spc="-1" strike="noStrike">
                <a:solidFill>
                  <a:srgbClr val="000000"/>
                </a:solidFill>
                <a:latin typeface="Arial Black"/>
              </a:rPr>
              <a:t>Edizione 2002: S.M. Borsi-Pazzini - S.E. G. Micheli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it-IT" sz="900" spc="-1" strike="noStrike">
                <a:solidFill>
                  <a:srgbClr val="000000"/>
                </a:solidFill>
                <a:latin typeface="Arial Black"/>
              </a:rPr>
              <a:t>Edizione 2003: S.M. Mazzini. S.E. G. Carducci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it-IT" sz="900" spc="-1" strike="noStrike">
                <a:solidFill>
                  <a:srgbClr val="000000"/>
                </a:solidFill>
                <a:latin typeface="Arial Black"/>
              </a:rPr>
              <a:t>Edizione 2004: S.M. Bartolena- S.E. G. Carducci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it-IT" sz="900" spc="-1" strike="noStrike">
                <a:solidFill>
                  <a:srgbClr val="000000"/>
                </a:solidFill>
                <a:latin typeface="Arial Black"/>
              </a:rPr>
              <a:t>Edizione 2005 : S.M. Mazzini - S.E. G. Carducci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it-IT" sz="900" spc="-1" strike="noStrike">
                <a:solidFill>
                  <a:srgbClr val="000000"/>
                </a:solidFill>
                <a:latin typeface="Arial Black"/>
              </a:rPr>
              <a:t>Edizione 2006 : S.M. Mazzini - S.E. De Amici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it-IT" sz="900" spc="-1" strike="noStrike">
                <a:solidFill>
                  <a:srgbClr val="000000"/>
                </a:solidFill>
                <a:latin typeface="Arial Black"/>
              </a:rPr>
              <a:t>Edizione 2007 : S.M. Mazzini - S.E. Albertelli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it-IT" sz="900" spc="-1" strike="noStrike">
                <a:solidFill>
                  <a:srgbClr val="000000"/>
                </a:solidFill>
                <a:latin typeface="Arial Black"/>
              </a:rPr>
              <a:t>Edizione 2008 : S.M. Mazzini  - S.E. De Amici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it-IT" sz="900" spc="-1" strike="noStrike">
                <a:solidFill>
                  <a:srgbClr val="000000"/>
                </a:solidFill>
                <a:latin typeface="Arial Black"/>
              </a:rPr>
              <a:t>Edizione 2009 : S.M. Mazzini  - S.E. De Amici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it-IT" sz="900" spc="-1" strike="noStrike">
                <a:solidFill>
                  <a:srgbClr val="000000"/>
                </a:solidFill>
                <a:latin typeface="Arial Black"/>
              </a:rPr>
              <a:t>Edizione 2010 : S.M. Mazzini  - S.E. De Amici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it-IT" sz="900" spc="-1" strike="noStrike">
                <a:solidFill>
                  <a:srgbClr val="000000"/>
                </a:solidFill>
                <a:latin typeface="Arial Black"/>
              </a:rPr>
              <a:t>Edizione 2011 : S.M. Mazzini  - S.E. De Amici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it-IT" sz="900" spc="-1" strike="noStrike">
                <a:solidFill>
                  <a:srgbClr val="000000"/>
                </a:solidFill>
                <a:latin typeface="Arial Black"/>
              </a:rPr>
              <a:t>Edizione 2012 : S.M. Mazzini  - S.E. De Amici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0"/>
          <p:cNvSpPr/>
          <p:nvPr/>
        </p:nvSpPr>
        <p:spPr>
          <a:xfrm>
            <a:off x="706680" y="6237360"/>
            <a:ext cx="34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ORE 18.00 PREMIAZIONE SCUOLE MEDIE ED ELEMENTARI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cc00"/>
                </a:solidFill>
                <a:latin typeface="Arial"/>
              </a:rPr>
              <a:t>            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ESTRAZIONE DELLE DUE MOUNTAIN -BIK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4"/>
          <p:cNvSpPr/>
          <p:nvPr/>
        </p:nvSpPr>
        <p:spPr>
          <a:xfrm>
            <a:off x="1424160" y="5076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ORARI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ggetto 1"/>
          <p:cNvGraphicFramePr/>
          <p:nvPr/>
        </p:nvGraphicFramePr>
        <p:xfrm>
          <a:off x="631800" y="173160"/>
          <a:ext cx="3879720" cy="57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Oggetto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1800" y="173160"/>
                    <a:ext cx="3879720" cy="57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8T07:14:15Z</dcterms:created>
  <dc:creator>Pardini</dc:creator>
  <dc:description/>
  <dc:language>en-US</dc:language>
  <cp:lastModifiedBy>Utente</cp:lastModifiedBy>
  <cp:lastPrinted>2013-02-27T12:54:48Z</cp:lastPrinted>
  <dcterms:modified xsi:type="dcterms:W3CDTF">2013-02-28T22:18:47Z</dcterms:modified>
  <cp:revision>83</cp:revision>
  <dc:subject/>
  <dc:title>Nessun titolo diapositiva</dc:title>
</cp:coreProperties>
</file>